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A2A-E171-48D9-A260-B2FD1975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C46-CCFA-47EC-970B-7F19D613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C5D-B334-44A0-8116-A59A8070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B8A-CE1F-4AFA-8A16-68DDCC37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40D-2A08-423C-8A02-89B7881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F7F-4940-4C7C-B023-53383C8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ACD-05EF-49D7-A278-7A59486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5C4-84D1-4E51-9B1D-5DA4368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E36-797F-438A-83D1-BAB191C7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6B0-E224-4C84-9D43-679B396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7E6-627D-453E-81BC-6EF78EF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AF5-9BFA-4CC9-959B-17BEB05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EFFC-0271-4A32-92E2-349A779C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donde esta Micaela?  ¿De donde es el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thout looking in your texts or your notes, write as many names of as many Spanish countries as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8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9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origen y coloca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Origin and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use the verb SER to tell where someone or something is from; its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rofesora ES de Puerto 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fé ES de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otros SOMOS de Boli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s bananas SON de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ú ERES de Nueva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SOY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 You use ESTAR to express where someone or something is located. ESTAR expresses both temporary and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lumnos ESTAN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drid ESTA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ESTOY en la clase de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los ESTAN en la cafe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 (1-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a el paquete de “Ser y Esta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THIS WILL BE GRADED AS A TEST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T WILL BE COLLECTED THUR. APR. 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9718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5:54:16Z</dcterms:created>
  <dc:creator>Helen Zumaeta</dc:creator>
  <dc:description/>
  <dc:language>en-US</dc:language>
  <cp:lastModifiedBy>Helen Zumaeta</cp:lastModifiedBy>
  <dcterms:modified xsi:type="dcterms:W3CDTF">2011-04-15T20:08:07Z</dcterms:modified>
  <cp:revision>2</cp:revision>
  <dc:subject/>
  <dc:title>Me llamo _________  Clase 7 im La fecha es el 15 de abril del 2011</dc:title>
</cp:coreProperties>
</file>